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DECF51E-9CF2-4300-B744-E48C12AF892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41EC22EC-23A8-4E0A-BB96-7E9DB2032BC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C38C77CD-6973-4490-BF96-1E80DA42065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A8BB038B-E77E-4B71-9E49-A60B2DA469F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392D8B56-F9A1-40C4-9A76-2376231ECA5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80379B-B8FD-427A-8BF8-58E4F148FFE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38D45120-27C6-4A9F-9787-AB90723AB4B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8AFB8D01-C07F-4CEB-9E77-947AA7B40DD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E5B088ED-1F39-4851-B7CD-2EEF567E7CF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128DFD0-885E-423B-945B-F4E2D7A16A0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AD1B542-03FB-477E-B42A-576F9F68587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B11E276-AAF1-46FA-9FD7-37F43886173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139567-F413-40B9-A094-70EED1F4DE2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C3BBF54-A80F-4114-BC71-70BC939A1B33}"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9E98151-6DA6-43F5-A758-E2A2A0CAAD76}"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AC1ACCE-E39B-419C-9101-551A442FF368}"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8462F9E-7FFC-4CB0-B350-ACD6D6733DA3}"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B70350-14C7-424D-898E-695DA7EE36AC}"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F51FD7-204F-4D01-9D11-D15D1E778DC9}"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8995DD4-9386-4689-89D8-51AA8A5D647B}"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68C0EE-09FB-4AFC-AB32-59A2F702D0E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1B0287-3D0B-451A-82CF-4A8CC7D0495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BDBB0B7-B2F8-4093-978C-9869914A13B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C9A947-7FD2-4C5B-8DFE-E7BFBAB4F85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478B62C-6069-43CB-AFD8-FA08D551073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AAD82B14-62EC-4AE1-8AC7-F3FFB44BA9E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CBE5784-D11A-4F9B-9486-7C743ABFBDB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823D55-AAA3-4D50-A831-E414ED55C89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F54CDE-8A54-447F-8D63-64DD265A77F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636C369-262C-4942-83E1-50B6F2EC7A6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09C80B-1D22-4B65-A79F-65016491161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E62CE0-3A8A-4595-8E16-D3107054EB9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3EEEB9-6DF2-4F48-9A38-5C983A70B4C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9166E80-22F1-4FF3-A8F0-A03AA5B614A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540D464-85F0-43EA-B863-5DC537F7D9B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3927A24-3DE9-40A5-AECA-A019D4A01A2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12A58CE-903D-4D13-9CF9-51C507070DE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AD2815-3677-489F-81F5-E5B01A0F0E5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29ECB28-85A0-4816-9223-86F3B2E567C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ADB347E-85D7-4E44-8247-F75BE7D9350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7B3480-B59A-4ECC-B730-56E6C58D595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00D7A77-02A9-4AFF-AA2A-9F27D1019112}"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F1D2C7-314E-4EBD-9E60-C790849EE62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913C85E-6093-4ED9-8666-AAC39DE83893}"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49FC731-0C19-4BDB-8364-C4008877C2B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56F6F9A-CDBF-4A45-AF74-199C4877B8D4}"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B752E8-12F9-4EC2-BC20-9860776A0E6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F99E808-181B-47B2-8C42-EEB29827480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5F0F4F1-FB32-4FD5-ACA1-1601402F9A4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BD2E5D-B1FB-4658-8E94-9B1CD462F197}"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F481562C-4C78-4294-A16E-A8DBF670634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FE146D-B5F7-4C25-8463-AADB15DE3619}"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5EF204-A9AB-4CCF-AA51-9C16B40A5CE5}"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B21EC3-E303-45A2-AE58-CD4051E9EBF6}"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B1FE6D-1CF2-4F74-BFE5-A96D4904E781}"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1D6D285-2A92-4186-A339-0E8CB42B557F}"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6F6662-16BE-45A1-9E81-BACE30A2DA65}"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A29B80-AD4C-4E4B-8515-3BCF1FFA64C5}"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5812973-BF63-4482-AE86-A61BC2F3C939}"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C0B60D-3D97-404D-8E12-6020F564FF06}"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9C84F6DF-F3E1-498F-A707-40ED3F2102B6}"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767C1DB-FC29-43BD-A8BA-7AFBFB79D24C}"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3B0CFD7-A471-47C5-9E62-DA63DE0191EC}"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E1DF88-87D0-4BFF-991D-B936E4C943AF}"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71257A-EC1C-4577-AA49-23E35FAAF7EE}"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8E112BF-DC17-4442-A657-35827F83DEC9}"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379824-44FD-4FDD-8EF5-D1FADA79E871}"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868F52-793C-47CC-96DB-847EDD3E5C07}"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ADB78E9-4089-4BE4-AEE9-90F1127A5717}"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CF78F8-CC27-4D6B-8612-25694B1E3032}"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84370F-1FCF-443B-A0F7-B7E01086CBE1}"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7720A3FA-5F08-4E1E-B4D3-798EC6939FCA}"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F1AC5AB-4EF9-4327-96BB-104CDD5ABD40}"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2F996E-ACD6-4B0F-A36E-7A73F3F0397F}"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9C1DA0A-5F9A-46B5-8B01-593D3FEABBEE}"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B164173-728A-4D4E-AD3B-8C7B862CD960}"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7B0164F-67B1-48C2-96D7-D2284E179F88}"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2A1D9D-F245-4E90-9CDA-27C53747A083}"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FDAE62-559B-4601-85F9-8C0825C9A49F}"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4C27BD3-CBDC-4985-8C67-D2BB2BD1A503}"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C21ED5C-9B18-4375-B907-7530DE80075B}"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A17715-97FE-4890-B6DB-B66E94FF0BEF}"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F2A07F-E15D-4DF1-B56F-08C312F1965B}"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9BD4069-A9BB-49FA-B256-5EA64954089C}"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2FC4A1-A04D-4D92-83FC-567B38A1C1E1}"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14D1AD4-8FBF-47A0-BC3A-70B06A5D40AD}"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2863CAD-B32F-4771-B674-01262C094132}"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B9795A2-E54E-4CFF-A203-BE41D87F592A}"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396293B-6369-47DC-94C1-7D63115F3D77}"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678C6A-7899-43EB-AC82-B8393826FC3F}"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DC71F4E-CE59-4892-88B2-02A564049108}"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3D0341-C2B8-45E6-8E6A-E7843AE84BAF}"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C022FF5-DD08-4181-911F-209F452A09F2}"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0A4B82-636A-4311-A043-D58829783394}"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07920C-0ECB-47A1-B7A4-4C4A2441BCE4}"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7A9356-9D9E-44F2-89A2-0B3C1631EAEB}"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6BDC4B-956A-493C-8C7F-5D4CCAA6D8FC}"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7DFFE66-141E-41B7-B5C2-277A91C260A3}"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278FB5-26DC-4437-8B56-9BD02FECC311}"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EFE8DE-27DB-424C-A343-168823BF2C6E}"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564D2CF-5624-4C6A-A9C3-2D161A78CAEA}"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1C96AE-60BF-4C60-8652-974C000697D0}"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8368878-1B0A-4656-8755-CDFE47D05B1F}"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4FE158-B55D-4945-9651-CB4CCEFEB410}"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39F7207-9795-425C-AE34-D3AA14F43515}"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022B6F-81DA-4AD8-BA63-339BD1805A33}"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3C1B59-55D6-4331-8986-041534DBB030}"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BD193E6-1A42-44B8-A308-C79B206F2036}"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F78968-B190-46C4-9E2E-A82A403B3A80}"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C7B3D5-5580-457E-A6E3-1CF1B2F52F8E}"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2EDF2E-5783-4785-A59A-123013EE9B07}"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B9B18CC-8953-4E6D-BCB2-F26B8AFBDC6B}"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EF33C8B-D404-437C-ACE3-A48BC48864E5}"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F096B9-CAAE-4918-AD9A-7A05BF62431B}"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AF8EF82-FCEE-467F-8BBA-E06BDC485018}"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0C06BA-00ED-4A18-AA63-0CB036722D8F}"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246AA72-7223-4883-BFDA-69CD682D1220}"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